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4.bin" ContentType="application/vnd.openxmlformats-officedocument.oleObject"/>
  <Override PartName="/ppt/embeddings/oleObject1.docx" ContentType="application/vnd.openxmlformats-officedocument.wordprocessingml.document"/>
  <Override PartName="/ppt/embeddings/oleObject7.docx" ContentType="application/vnd.openxmlformats-officedocument.wordprocessingml.document"/>
  <Override PartName="/ppt/embeddings/oleObject8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4.docx" ContentType="application/vnd.openxmlformats-officedocument.wordprocessingml.document"/>
  <Override PartName="/ppt/embeddings/oleObject5.bin" ContentType="application/vnd.openxmlformats-officedocument.oleObject"/>
  <Override PartName="/ppt/embeddings/oleObject5.docx" ContentType="application/vnd.openxmlformats-officedocument.wordprocessingml.document"/>
  <Override PartName="/ppt/embeddings/oleObject6.docx" ContentType="application/vnd.openxmlformats-officedocument.wordprocessingml.document"/>
  <Override PartName="/ppt/embeddings/oleObject9.docx" ContentType="application/vnd.openxmlformats-officedocument.wordprocessingml.document"/>
  <Override PartName="/ppt/embeddings/oleObject3.bin" ContentType="application/vnd.openxmlformats-officedocument.oleObjec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7698-176F-4210-81A5-D43FFA1E5E48}" type="slidenum">
              <a:rPr b="1" lang="en-US" sz="12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8E11-9203-43BE-87E1-38D1B0336121}" type="slidenum">
              <a:rPr b="1" lang="en-US" sz="12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ldImg"/>
          </p:nvPr>
        </p:nvSpPr>
        <p:spPr>
          <a:xfrm>
            <a:off x="1182600" y="60336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8322-257B-424A-82BF-45CD7B918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3524400"/>
            <a:ext cx="85345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DB38-4808-4CD7-A03F-18646575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4160" y="129528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352440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4160" y="352440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2EC2-EFC9-45BE-8942-2923A2636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74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6280" y="1295280"/>
            <a:ext cx="274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51680" y="1295280"/>
            <a:ext cx="274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3524400"/>
            <a:ext cx="274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6280" y="3524400"/>
            <a:ext cx="274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51680" y="3524400"/>
            <a:ext cx="274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C8FA-308F-450F-8DEE-4116A0A2A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5E43-6F26-4ED5-99F1-464BA443E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1D9BF-84A6-4EEA-8CB3-ED2EC952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5D25D-E361-4B91-AFBC-90FE1CC4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1648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4160" y="1295280"/>
            <a:ext cx="41648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AFAE-2209-4B2B-BDA7-AEA388FD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135C-C5A8-45D9-A401-AB4E39AD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85345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F249C-9B0E-4DC7-B69E-9B8EF9B1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295280"/>
            <a:ext cx="41648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352440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222F-72CA-43CE-ABC1-52D940D6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F665-A288-4786-8780-3F8FB955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1648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4160" y="129528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54160" y="352440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957F-59A9-494F-8239-4DEC0A85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4160" y="129528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3524400"/>
            <a:ext cx="85345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7491-6BC7-4250-B5E6-3BA240D7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0520" y="3524400"/>
            <a:ext cx="85345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1F70-A785-42F5-BB99-2136E3D82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4160" y="129528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520" y="352440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54160" y="352440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8AB98-CA79-4498-820F-5D6264B8A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74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66280" y="1295280"/>
            <a:ext cx="274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51680" y="1295280"/>
            <a:ext cx="274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80520" y="3524400"/>
            <a:ext cx="274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66280" y="3524400"/>
            <a:ext cx="274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51680" y="3524400"/>
            <a:ext cx="274788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0147C-2D83-4586-93F7-0882ABD28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09E9-1BD1-4EA1-A7C2-A1C5D2D3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1648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4160" y="1295280"/>
            <a:ext cx="41648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B8A5-F895-4AC9-87E8-08998797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2873-FFF8-4ACD-8BB5-3B2D4E39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85345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B5DF-37CB-44CD-9DC5-74C28A55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4160" y="1295280"/>
            <a:ext cx="41648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352440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1649-50E8-4E28-9F66-7282A87B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1648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4160" y="129528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4160" y="352440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B2DE-FAEE-4826-A4CC-9BFE717A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160" y="1295280"/>
            <a:ext cx="41648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3524400"/>
            <a:ext cx="85345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5860-5EF8-43BF-937C-9C853A64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857160" indent="-17604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206360" indent="-23472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482840" indent="-1620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482840" indent="-1620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482840" indent="-1620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380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-360" y="662904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80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-360" y="662904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29052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68112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97164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320840" algn="ctr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5" marL="132084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6" marL="132084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pn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4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5.png"/><Relationship Id="rId7" Type="http://schemas.openxmlformats.org/officeDocument/2006/relationships/package" Target="../embeddings/oleObject4.docx"/><Relationship Id="rId8" Type="http://schemas.openxmlformats.org/officeDocument/2006/relationships/image" Target="../media/image6.png"/><Relationship Id="rId9" Type="http://schemas.openxmlformats.org/officeDocument/2006/relationships/package" Target="../embeddings/oleObject5.docx"/><Relationship Id="rId10" Type="http://schemas.openxmlformats.org/officeDocument/2006/relationships/image" Target="../media/image7.png"/><Relationship Id="rId11" Type="http://schemas.openxmlformats.org/officeDocument/2006/relationships/package" Target="../embeddings/oleObject6.docx"/><Relationship Id="rId12" Type="http://schemas.openxmlformats.org/officeDocument/2006/relationships/image" Target="../media/image8.png"/><Relationship Id="rId13" Type="http://schemas.openxmlformats.org/officeDocument/2006/relationships/package" Target="../embeddings/oleObject7.docx"/><Relationship Id="rId14" Type="http://schemas.openxmlformats.org/officeDocument/2006/relationships/image" Target="../media/image9.png"/><Relationship Id="rId15" Type="http://schemas.openxmlformats.org/officeDocument/2006/relationships/package" Target="../embeddings/oleObject8.docx"/><Relationship Id="rId16" Type="http://schemas.openxmlformats.org/officeDocument/2006/relationships/image" Target="../media/image10.png"/><Relationship Id="rId17" Type="http://schemas.openxmlformats.org/officeDocument/2006/relationships/package" Target="../embeddings/oleObject9.docx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image" Target="../media/image15.png"/><Relationship Id="rId23" Type="http://schemas.openxmlformats.org/officeDocument/2006/relationships/image" Target="../media/image16.png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 Narrow"/>
              </a:rPr>
              <a:t>Data Manipulation</a:t>
            </a: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3276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verview and Application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hanging LabVIEW Data Type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800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ypecas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hange data type of inform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orks with flat data, 1D arrays of flat data, and string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fault type is str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latten/Unflatten to/from Str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ork with all dat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ehaves like LabVIEW internal flatten func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5486400" y="1676520"/>
          <a:ext cx="3352680" cy="116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676520"/>
                    <a:ext cx="3352680" cy="11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5334120" y="3124080"/>
          <a:ext cx="3352680" cy="98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3124080"/>
                    <a:ext cx="335268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5410080" y="4419720"/>
          <a:ext cx="3200400" cy="933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10080" y="4419720"/>
                    <a:ext cx="320040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Byte Level Data Manipulation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5943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plit / Join numeric values into new dat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wap Bytes/Words to reorder existing dat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nvert data to unsigned bytes/words/longwords to manipulate at the byt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nvert data to strings to use string functions for manipul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6172200" y="838080"/>
          <a:ext cx="2590920" cy="10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838080"/>
                    <a:ext cx="25909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6248520" y="4175280"/>
          <a:ext cx="2666880" cy="69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4175280"/>
                    <a:ext cx="2666880" cy="69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6248520" y="5013360"/>
          <a:ext cx="2590560" cy="70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48520" y="5013360"/>
                    <a:ext cx="25905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6248520" y="2152800"/>
          <a:ext cx="2514600" cy="971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48520" y="2152800"/>
                    <a:ext cx="251460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6172200" y="3276720"/>
          <a:ext cx="2666880" cy="641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72200" y="3276720"/>
                    <a:ext cx="266688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Bit Level Manipulation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51055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otate Left / Right with Carry to move bits and effect other valu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otate to move bits within a valu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ogical shift moves bits, putting 0s in their plac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urn data into unsigned bytes to use these functions easil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r custom bit manipulation turn data into Boolean array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5638680" y="880920"/>
          <a:ext cx="3124440" cy="87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880920"/>
                    <a:ext cx="312444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5638680" y="2209680"/>
          <a:ext cx="3124440" cy="92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2209680"/>
                    <a:ext cx="312444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5715000" y="4724280"/>
          <a:ext cx="3124080" cy="115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4724280"/>
                    <a:ext cx="3124080" cy="11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5638680" y="3581280"/>
          <a:ext cx="3124440" cy="750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38680" y="3581280"/>
                    <a:ext cx="312444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Applications of Data Manipulation - Encryption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ncryption – make files or data transfers hard to rea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ndards exist for process (NIST, private corporation, etc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57160" indent="-17604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crambled data is called ciphertext, unscrambled data plaintex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857160" indent="-17604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ata often encrypted using a key – usually a specific number of random bits and error checking bit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206360" indent="-234720"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x: 64 bit key: 56 data bits, 8 parity bits (one per byte of key data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3" marL="1206360" indent="-234720"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ymmetric-key: each user has access to the same ke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3" marL="1206360" indent="-234720"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ublic-key: each user has a public and private ke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l sorts of algorithms exist to encrypt data (DES, IDEA, Blowfish, etc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eb has a good source of intro pag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57160" indent="-17604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ttp://www.anujseth.com/crypto/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How to Encrypt Data?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ook a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Narrow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party DLL into LabVIEW using the Call Library Node (complexities, speed, usability, etc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Grow your ow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bably not as secure (but good enough?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bably easier to implement/understan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ome options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857160" indent="-176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mple bit shift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57160" indent="-176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Key ciphering with your own algorithm (ie: password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57160" indent="-176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mplementation of known algorithm in native G-cod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verview of LabVIEW data typ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anipulating LabVIEW data typ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hanging data typ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yte level manipulation of dat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it level manipulation of dat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pplications involving data manipula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ata encryp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strument I/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96840" y="890640"/>
            <a:ext cx="30121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signed 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signed 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signed 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gle Pr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uble Pr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nded Pr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63680" y="974880"/>
          <a:ext cx="473040" cy="23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974880"/>
                    <a:ext cx="47304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63680" y="1355760"/>
          <a:ext cx="473040" cy="236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3680" y="1355760"/>
                    <a:ext cx="47304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463680" y="1722600"/>
          <a:ext cx="473040" cy="2365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3680" y="1722600"/>
                    <a:ext cx="47304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463680" y="2070000"/>
          <a:ext cx="473040" cy="2365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3680" y="2070000"/>
                    <a:ext cx="47304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63680" y="2441520"/>
          <a:ext cx="473040" cy="23652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3680" y="2441520"/>
                    <a:ext cx="47304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63680" y="2817720"/>
          <a:ext cx="473040" cy="23652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3680" y="2817720"/>
                    <a:ext cx="47304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463680" y="3170160"/>
          <a:ext cx="473040" cy="236520"/>
        </p:xfrm>
        <a:graphic>
          <a:graphicData uri="http://schemas.openxmlformats.org/presentationml/2006/ole">
            <p:oleObj progId="Word.Document.12" r:id="rId1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63680" y="3170160"/>
                    <a:ext cx="47304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463680" y="3551400"/>
          <a:ext cx="473040" cy="236520"/>
        </p:xfrm>
        <a:graphic>
          <a:graphicData uri="http://schemas.openxmlformats.org/presentationml/2006/ole">
            <p:oleObj progId="Word.Document.12" r:id="rId15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63680" y="3551400"/>
                    <a:ext cx="47304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63680" y="3903840"/>
          <a:ext cx="473040" cy="236520"/>
        </p:xfrm>
        <a:graphic>
          <a:graphicData uri="http://schemas.openxmlformats.org/presentationml/2006/ole">
            <p:oleObj progId="Word.Document.12" r:id="rId17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63680" y="3903840"/>
                    <a:ext cx="47304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4711680" y="1317600"/>
            <a:ext cx="849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973680" y="988920"/>
            <a:ext cx="596880" cy="216000"/>
            <a:chOff x="3973680" y="988920"/>
            <a:chExt cx="596880" cy="216000"/>
          </a:xfrm>
        </p:grpSpPr>
        <p:sp>
          <p:nvSpPr>
            <p:cNvPr id="116" name=""/>
            <p:cNvSpPr/>
            <p:nvPr/>
          </p:nvSpPr>
          <p:spPr>
            <a:xfrm>
              <a:off x="3973680" y="988920"/>
              <a:ext cx="6336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050000" y="988920"/>
              <a:ext cx="6336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25960" y="988920"/>
              <a:ext cx="6372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02280" y="988920"/>
              <a:ext cx="6336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78600" y="988920"/>
              <a:ext cx="6336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354560" y="988920"/>
              <a:ext cx="6372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30880" y="988920"/>
              <a:ext cx="6336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07200" y="988920"/>
              <a:ext cx="6336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973680" y="1722600"/>
            <a:ext cx="1129320" cy="215640"/>
            <a:chOff x="3973680" y="1722600"/>
            <a:chExt cx="1129320" cy="215640"/>
          </a:xfrm>
        </p:grpSpPr>
        <p:grpSp>
          <p:nvGrpSpPr>
            <p:cNvPr id="125" name=""/>
            <p:cNvGrpSpPr/>
            <p:nvPr/>
          </p:nvGrpSpPr>
          <p:grpSpPr>
            <a:xfrm>
              <a:off x="3973680" y="1722600"/>
              <a:ext cx="596160" cy="215640"/>
              <a:chOff x="3973680" y="1722600"/>
              <a:chExt cx="596160" cy="215640"/>
            </a:xfrm>
          </p:grpSpPr>
          <p:sp>
            <p:nvSpPr>
              <p:cNvPr id="126" name=""/>
              <p:cNvSpPr/>
              <p:nvPr/>
            </p:nvSpPr>
            <p:spPr>
              <a:xfrm>
                <a:off x="3973680" y="1722600"/>
                <a:ext cx="63000" cy="215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049640" y="1722600"/>
                <a:ext cx="63000" cy="215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125600" y="1722600"/>
                <a:ext cx="63360" cy="215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201920" y="1722600"/>
                <a:ext cx="63000" cy="215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278240" y="1722600"/>
                <a:ext cx="63000" cy="215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354200" y="1722600"/>
                <a:ext cx="63360" cy="215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430520" y="1722600"/>
                <a:ext cx="63000" cy="215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506840" y="1722600"/>
                <a:ext cx="63000" cy="215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4506840" y="1722600"/>
              <a:ext cx="596160" cy="215640"/>
              <a:chOff x="4506840" y="1722600"/>
              <a:chExt cx="596160" cy="215640"/>
            </a:xfrm>
          </p:grpSpPr>
          <p:sp>
            <p:nvSpPr>
              <p:cNvPr id="135" name=""/>
              <p:cNvSpPr/>
              <p:nvPr/>
            </p:nvSpPr>
            <p:spPr>
              <a:xfrm>
                <a:off x="4506840" y="1722600"/>
                <a:ext cx="63000" cy="215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82440" y="1722600"/>
                <a:ext cx="63360" cy="215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658760" y="1722600"/>
                <a:ext cx="63000" cy="215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735080" y="1722600"/>
                <a:ext cx="63000" cy="215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811040" y="1722600"/>
                <a:ext cx="63360" cy="215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887360" y="1722600"/>
                <a:ext cx="63000" cy="215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963680" y="1722600"/>
                <a:ext cx="63000" cy="215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039640" y="1722600"/>
                <a:ext cx="63360" cy="215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3973680" y="2817720"/>
            <a:ext cx="2271960" cy="216000"/>
            <a:chOff x="3973680" y="2817720"/>
            <a:chExt cx="2271960" cy="216000"/>
          </a:xfrm>
        </p:grpSpPr>
        <p:grpSp>
          <p:nvGrpSpPr>
            <p:cNvPr id="144" name=""/>
            <p:cNvGrpSpPr/>
            <p:nvPr/>
          </p:nvGrpSpPr>
          <p:grpSpPr>
            <a:xfrm>
              <a:off x="3973680" y="2817720"/>
              <a:ext cx="1129320" cy="216000"/>
              <a:chOff x="3973680" y="2817720"/>
              <a:chExt cx="1129320" cy="216000"/>
            </a:xfrm>
          </p:grpSpPr>
          <p:grpSp>
            <p:nvGrpSpPr>
              <p:cNvPr id="145" name=""/>
              <p:cNvGrpSpPr/>
              <p:nvPr/>
            </p:nvGrpSpPr>
            <p:grpSpPr>
              <a:xfrm>
                <a:off x="3973680" y="2817720"/>
                <a:ext cx="596160" cy="216000"/>
                <a:chOff x="3973680" y="2817720"/>
                <a:chExt cx="596160" cy="21600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3973680" y="2817720"/>
                  <a:ext cx="63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049640" y="2817720"/>
                  <a:ext cx="63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125600" y="2817720"/>
                  <a:ext cx="6336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201920" y="2817720"/>
                  <a:ext cx="63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278240" y="2817720"/>
                  <a:ext cx="63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354200" y="2817720"/>
                  <a:ext cx="6336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430520" y="2817720"/>
                  <a:ext cx="63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506840" y="2817720"/>
                  <a:ext cx="63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506840" y="2817720"/>
                <a:ext cx="596160" cy="216000"/>
                <a:chOff x="4506840" y="2817720"/>
                <a:chExt cx="596160" cy="21600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506840" y="2817720"/>
                  <a:ext cx="63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582440" y="2817720"/>
                  <a:ext cx="6336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658760" y="2817720"/>
                  <a:ext cx="63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735080" y="2817720"/>
                  <a:ext cx="63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811040" y="2817720"/>
                  <a:ext cx="6336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4887360" y="2817720"/>
                  <a:ext cx="63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4963680" y="2817720"/>
                  <a:ext cx="63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5039640" y="2817720"/>
                  <a:ext cx="6336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3" name=""/>
            <p:cNvGrpSpPr/>
            <p:nvPr/>
          </p:nvGrpSpPr>
          <p:grpSpPr>
            <a:xfrm>
              <a:off x="5116320" y="2817720"/>
              <a:ext cx="1129320" cy="216000"/>
              <a:chOff x="5116320" y="2817720"/>
              <a:chExt cx="1129320" cy="216000"/>
            </a:xfrm>
          </p:grpSpPr>
          <p:grpSp>
            <p:nvGrpSpPr>
              <p:cNvPr id="164" name=""/>
              <p:cNvGrpSpPr/>
              <p:nvPr/>
            </p:nvGrpSpPr>
            <p:grpSpPr>
              <a:xfrm>
                <a:off x="5116320" y="2817720"/>
                <a:ext cx="596160" cy="216000"/>
                <a:chOff x="5116320" y="2817720"/>
                <a:chExt cx="596160" cy="21600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5116320" y="2817720"/>
                  <a:ext cx="63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192280" y="2817720"/>
                  <a:ext cx="63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5268240" y="2817720"/>
                  <a:ext cx="6336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5344560" y="2817720"/>
                  <a:ext cx="63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5420880" y="2817720"/>
                  <a:ext cx="63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496840" y="2817720"/>
                  <a:ext cx="6336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5573160" y="2817720"/>
                  <a:ext cx="63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5649480" y="2817720"/>
                  <a:ext cx="63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5649480" y="2817720"/>
                <a:ext cx="596160" cy="216000"/>
                <a:chOff x="5649480" y="2817720"/>
                <a:chExt cx="596160" cy="21600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5649480" y="2817720"/>
                  <a:ext cx="63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725080" y="2817720"/>
                  <a:ext cx="6336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801400" y="2817720"/>
                  <a:ext cx="63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5877720" y="2817720"/>
                  <a:ext cx="63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5953680" y="2817720"/>
                  <a:ext cx="6336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6030000" y="2817720"/>
                  <a:ext cx="63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6106320" y="2817720"/>
                  <a:ext cx="63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6182280" y="2817720"/>
                  <a:ext cx="6336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2" name=""/>
          <p:cNvGrpSpPr/>
          <p:nvPr/>
        </p:nvGrpSpPr>
        <p:grpSpPr>
          <a:xfrm>
            <a:off x="3973680" y="1370160"/>
            <a:ext cx="596880" cy="215640"/>
            <a:chOff x="3973680" y="1370160"/>
            <a:chExt cx="596880" cy="215640"/>
          </a:xfrm>
        </p:grpSpPr>
        <p:sp>
          <p:nvSpPr>
            <p:cNvPr id="183" name=""/>
            <p:cNvSpPr/>
            <p:nvPr/>
          </p:nvSpPr>
          <p:spPr>
            <a:xfrm>
              <a:off x="3973680" y="1370160"/>
              <a:ext cx="63360" cy="21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50000" y="1370160"/>
              <a:ext cx="63360" cy="21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125960" y="1370160"/>
              <a:ext cx="63720" cy="21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02280" y="1370160"/>
              <a:ext cx="63360" cy="21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78600" y="1370160"/>
              <a:ext cx="63360" cy="21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354560" y="1370160"/>
              <a:ext cx="63720" cy="21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430880" y="1370160"/>
              <a:ext cx="63360" cy="21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07200" y="1370160"/>
              <a:ext cx="63360" cy="21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3973680" y="2089080"/>
            <a:ext cx="1129320" cy="216000"/>
            <a:chOff x="3973680" y="2089080"/>
            <a:chExt cx="1129320" cy="216000"/>
          </a:xfrm>
        </p:grpSpPr>
        <p:grpSp>
          <p:nvGrpSpPr>
            <p:cNvPr id="192" name=""/>
            <p:cNvGrpSpPr/>
            <p:nvPr/>
          </p:nvGrpSpPr>
          <p:grpSpPr>
            <a:xfrm>
              <a:off x="3973680" y="2089080"/>
              <a:ext cx="596160" cy="216000"/>
              <a:chOff x="3973680" y="2089080"/>
              <a:chExt cx="596160" cy="216000"/>
            </a:xfrm>
          </p:grpSpPr>
          <p:sp>
            <p:nvSpPr>
              <p:cNvPr id="193" name=""/>
              <p:cNvSpPr/>
              <p:nvPr/>
            </p:nvSpPr>
            <p:spPr>
              <a:xfrm>
                <a:off x="3973680" y="2089080"/>
                <a:ext cx="63000" cy="216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049640" y="2089080"/>
                <a:ext cx="63000" cy="216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125600" y="2089080"/>
                <a:ext cx="63360" cy="216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201920" y="2089080"/>
                <a:ext cx="63000" cy="216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278240" y="2089080"/>
                <a:ext cx="63000" cy="216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354200" y="2089080"/>
                <a:ext cx="63360" cy="216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430520" y="2089080"/>
                <a:ext cx="63000" cy="216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506840" y="2089080"/>
                <a:ext cx="63000" cy="216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4506840" y="2089080"/>
              <a:ext cx="596160" cy="216000"/>
              <a:chOff x="4506840" y="2089080"/>
              <a:chExt cx="596160" cy="216000"/>
            </a:xfrm>
          </p:grpSpPr>
          <p:sp>
            <p:nvSpPr>
              <p:cNvPr id="202" name=""/>
              <p:cNvSpPr/>
              <p:nvPr/>
            </p:nvSpPr>
            <p:spPr>
              <a:xfrm>
                <a:off x="4506840" y="2089080"/>
                <a:ext cx="63000" cy="216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582440" y="2089080"/>
                <a:ext cx="63360" cy="216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658760" y="2089080"/>
                <a:ext cx="63000" cy="216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735080" y="2089080"/>
                <a:ext cx="63000" cy="216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811040" y="2089080"/>
                <a:ext cx="63360" cy="216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887360" y="2089080"/>
                <a:ext cx="63000" cy="216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963680" y="2089080"/>
                <a:ext cx="63000" cy="216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039640" y="2089080"/>
                <a:ext cx="63360" cy="216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0" name=""/>
          <p:cNvGrpSpPr/>
          <p:nvPr/>
        </p:nvGrpSpPr>
        <p:grpSpPr>
          <a:xfrm>
            <a:off x="3973680" y="2451240"/>
            <a:ext cx="2271960" cy="215640"/>
            <a:chOff x="3973680" y="2451240"/>
            <a:chExt cx="2271960" cy="215640"/>
          </a:xfrm>
        </p:grpSpPr>
        <p:grpSp>
          <p:nvGrpSpPr>
            <p:cNvPr id="211" name=""/>
            <p:cNvGrpSpPr/>
            <p:nvPr/>
          </p:nvGrpSpPr>
          <p:grpSpPr>
            <a:xfrm>
              <a:off x="3973680" y="2451240"/>
              <a:ext cx="1129320" cy="215640"/>
              <a:chOff x="3973680" y="2451240"/>
              <a:chExt cx="1129320" cy="215640"/>
            </a:xfrm>
          </p:grpSpPr>
          <p:grpSp>
            <p:nvGrpSpPr>
              <p:cNvPr id="212" name=""/>
              <p:cNvGrpSpPr/>
              <p:nvPr/>
            </p:nvGrpSpPr>
            <p:grpSpPr>
              <a:xfrm>
                <a:off x="3973680" y="2451240"/>
                <a:ext cx="596160" cy="215640"/>
                <a:chOff x="3973680" y="2451240"/>
                <a:chExt cx="596160" cy="21564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3973680" y="2451240"/>
                  <a:ext cx="63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049640" y="2451240"/>
                  <a:ext cx="63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125600" y="2451240"/>
                  <a:ext cx="6336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201920" y="2451240"/>
                  <a:ext cx="63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278240" y="2451240"/>
                  <a:ext cx="63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354200" y="2451240"/>
                  <a:ext cx="6336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4430520" y="2451240"/>
                  <a:ext cx="63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4506840" y="2451240"/>
                  <a:ext cx="63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4506840" y="2451240"/>
                <a:ext cx="596160" cy="215640"/>
                <a:chOff x="4506840" y="2451240"/>
                <a:chExt cx="596160" cy="21564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4506840" y="2451240"/>
                  <a:ext cx="63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4582440" y="2451240"/>
                  <a:ext cx="6336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4658760" y="2451240"/>
                  <a:ext cx="63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4735080" y="2451240"/>
                  <a:ext cx="63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4811040" y="2451240"/>
                  <a:ext cx="6336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4887360" y="2451240"/>
                  <a:ext cx="63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963680" y="2451240"/>
                  <a:ext cx="63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039640" y="2451240"/>
                  <a:ext cx="6336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0" name=""/>
            <p:cNvGrpSpPr/>
            <p:nvPr/>
          </p:nvGrpSpPr>
          <p:grpSpPr>
            <a:xfrm>
              <a:off x="5116320" y="2451240"/>
              <a:ext cx="1129320" cy="215640"/>
              <a:chOff x="5116320" y="2451240"/>
              <a:chExt cx="1129320" cy="2156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5116320" y="2451240"/>
                <a:ext cx="596160" cy="215640"/>
                <a:chOff x="5116320" y="2451240"/>
                <a:chExt cx="596160" cy="2156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5116320" y="2451240"/>
                  <a:ext cx="63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5192280" y="2451240"/>
                  <a:ext cx="63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5268240" y="2451240"/>
                  <a:ext cx="6336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5344560" y="2451240"/>
                  <a:ext cx="63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5420880" y="2451240"/>
                  <a:ext cx="63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496840" y="2451240"/>
                  <a:ext cx="6336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5573160" y="2451240"/>
                  <a:ext cx="63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49480" y="2451240"/>
                  <a:ext cx="63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5649480" y="2451240"/>
                <a:ext cx="596160" cy="215640"/>
                <a:chOff x="5649480" y="2451240"/>
                <a:chExt cx="596160" cy="21564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5649480" y="2451240"/>
                  <a:ext cx="63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725080" y="2451240"/>
                  <a:ext cx="6336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801400" y="2451240"/>
                  <a:ext cx="63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5877720" y="2451240"/>
                  <a:ext cx="63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953680" y="2451240"/>
                  <a:ext cx="6336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030000" y="2451240"/>
                  <a:ext cx="63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106320" y="2451240"/>
                  <a:ext cx="63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182280" y="2451240"/>
                  <a:ext cx="6336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49" name=""/>
          <p:cNvSpPr/>
          <p:nvPr/>
        </p:nvSpPr>
        <p:spPr>
          <a:xfrm>
            <a:off x="4711680" y="936720"/>
            <a:ext cx="849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44840" y="1622520"/>
            <a:ext cx="991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44840" y="2003400"/>
            <a:ext cx="991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387840" y="2384280"/>
            <a:ext cx="991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387840" y="2765520"/>
            <a:ext cx="991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3581280"/>
            <a:ext cx="10591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79120" y="5334120"/>
            <a:ext cx="1839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n: 16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76600" y="4267080"/>
            <a:ext cx="3225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/Linux: 10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330520" y="4724280"/>
            <a:ext cx="3464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wer Mac: Double/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1280" y="3124080"/>
            <a:ext cx="1062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LabVIEW Data Types: Numeric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9"/>
          <a:stretch/>
        </p:blipFill>
        <p:spPr>
          <a:xfrm>
            <a:off x="3962520" y="3048120"/>
            <a:ext cx="2438280" cy="4474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0"/>
          <a:stretch/>
        </p:blipFill>
        <p:spPr>
          <a:xfrm>
            <a:off x="3962520" y="3505320"/>
            <a:ext cx="2428920" cy="4762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1"/>
          <a:stretch/>
        </p:blipFill>
        <p:spPr>
          <a:xfrm>
            <a:off x="1066680" y="4191120"/>
            <a:ext cx="2448000" cy="476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2"/>
          <a:stretch/>
        </p:blipFill>
        <p:spPr>
          <a:xfrm>
            <a:off x="1066680" y="4648320"/>
            <a:ext cx="4238640" cy="6285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3"/>
          <a:stretch/>
        </p:blipFill>
        <p:spPr>
          <a:xfrm>
            <a:off x="1066680" y="5257800"/>
            <a:ext cx="2438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LabVIEW Data Types: Array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534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ored as handles containing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ze of each dimension (in unsigned long integers, U32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ata (size of elements varies but is consistent through array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o align data correctly, a few bytes of padding may be added before the first element of dat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rray is a continuous block of memor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609480" y="4114800"/>
            <a:ext cx="3429000" cy="16653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371600" y="3733920"/>
            <a:ext cx="199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1D array of SG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5791320" y="3733920"/>
            <a:ext cx="3000240" cy="21240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4495680" y="45403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4D array of I16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LabVIEW Data Types: Other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6108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134280" indent="-134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ooleans: 8 bi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390960" indent="-167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l zeros = FALSE, nonzero = TRU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34280" indent="-134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rings: 1D array of unsigned byt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34280" indent="-134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rray of Strings: array of U32 handles to string loca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34280" indent="-134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aths: handles containing path type and number of path components in U16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390960" indent="-167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yte 0,1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659880" indent="-13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0 (abs), 1(rel), 3 (UNC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390960" indent="-167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yte 2,3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659880" indent="-13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# of path component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5867280" y="914400"/>
            <a:ext cx="2990880" cy="15238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3429000" y="3276720"/>
            <a:ext cx="556272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LabVIEW Data Types: Cluster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5345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72800" indent="-1728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ata stored according to cluster order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2800" indent="-1728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calar data stored directly in cluster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2800" indent="-1728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rrays, strings, and paths stored as a handle to the memory location where the data is store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2800" indent="-1728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adding may need to be added, depending on O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685800" y="4896000"/>
            <a:ext cx="2286000" cy="10476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3276720" y="4848120"/>
            <a:ext cx="2361960" cy="10573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6324480" y="4924440"/>
            <a:ext cx="1743120" cy="99072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1072440" y="4038480"/>
            <a:ext cx="632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xample: cluster of SGL, EXT, and 1D array of U16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97440" y="4495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269600" y="4495680"/>
            <a:ext cx="6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936120" y="4495680"/>
            <a:ext cx="65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lattened Data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lat data takes up a continuous block of memor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alar and Array numerics are fl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rings are fl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rrays of strings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fl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uster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may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be flat (if simple numerics, for example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uring File I/O LabVIEW automatically flattens all data to ease storage to dis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latten/Unflatten to/from String functions perform the same operations in memor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lattened Data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lattened data normalized to standard form for platform independenc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umeric data in big endian form (MSB first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857160" indent="-17604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indows apps may need little endian – swap byt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un format for extended precision numb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lattened form does not have data encoding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hen unflattening data type needs to be know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ype descriptor used to define data typ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ype Descriptor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quence of word integers that can describe any data type in LabVIEW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&lt;length&gt; &lt;type code&gt;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&lt;length&gt; I16 size in bytes (including length word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&lt;type code&gt;  description of dat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ome additional info may follow type cod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rrays and clusters structured (since there are other data type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an quickly get complicated to deciph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5T01:10:10Z</dcterms:created>
  <dc:creator>Norma Dorst</dc:creator>
  <dc:description/>
  <dc:language>en-US</dc:language>
  <cp:lastModifiedBy>Kris Fuller</cp:lastModifiedBy>
  <dcterms:modified xsi:type="dcterms:W3CDTF">2003-03-20T16:31:06Z</dcterms:modified>
  <cp:revision>200</cp:revision>
  <dc:subject/>
  <dc:title>The Vision of Virtual Instrumentation</dc:title>
</cp:coreProperties>
</file>