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bin" ContentType="application/vnd.openxmlformats-officedocument.oleObjec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3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3036-9A1E-4341-BBE7-901C723682B5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07840" y="405288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marL="171360" indent="0">
              <a:spcAft>
                <a:spcPts val="675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ges 10-42 to 10-4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st instruments return a waveform as either an ASCII string or a binary string.  A binary transfer is faster and requires less memory than an ASCII string trans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CII Wavefor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1,024 points, each between 0 and 255, you need a maximum of 4 bytes per point, or 4,096 bytes, plus any header and trailer inform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Numb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I to convert to an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nary waveforms encoded as 1-byte integers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ring to Byte Arr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to convert to an arr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nary waveforms encoded as 2-byte integers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ame waveform requires 2,048 bytes, plus header/ trailer inform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17136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eca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to convert to an I16 array and the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wap By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The LabVIEW Advanced course covers typecasting in more detai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82600" y="60156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38D6-BECF-4F29-84DB-6577A77E4DF0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7-25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roduce the numeric data types shown on the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integer data types, each small box represents one bit in the integ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floating point data types, each box represents one by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cribe the ranges of data and precision that can be stored for each numeric dataty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ers (blue terminals) cannot have fractional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only three or four digits of precision are needed, SGL data is adequ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82600" y="60336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0B7-BA38-4A1F-AE60-CF8DC3BD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6DB-13B9-44D9-BF5B-3DBB9A44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3E2-E9AC-460F-B1AB-DDF77E6E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B65-99DE-40E2-AAEA-26398F54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8EAB-9C4E-4A5C-A142-FE9C153F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E19C-D545-460E-8639-EF39FDCE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D8A5-24AE-4C9D-8511-63494FD3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026-246C-4C46-A75B-96286507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E139-B599-47E2-B999-844578BA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01C3-572C-4650-92B8-E2D3399E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656E-A1EA-4204-8014-48DF384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E06-DC78-48AC-B18F-739587D4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522-CE9A-4040-9C44-FD273D1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34B9-946E-463E-9EBD-A8800CA1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F533-B630-4C19-A120-AF2DDADF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C3A7-78DC-46C7-8811-1214F41C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327672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370D-89A3-43CC-8575-FF2ECACF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0C3-88CC-4CE6-8DAF-63BFDD1B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723-9026-4B93-AF6B-F1E0E7A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1F8-8058-4550-9530-7FDF3CBD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567-E609-4D90-ADFD-80BC67B7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42D-6A8F-4F68-AB32-03668A1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7D9-B927-4BEC-9643-AB948D5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3276720"/>
            <a:ext cx="401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980-A591-429C-8305-A21E94D2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206360" indent="-23472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482840" indent="-1620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68112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716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32084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32084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6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8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9.png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0.png"/><Relationship Id="rId17" Type="http://schemas.openxmlformats.org/officeDocument/2006/relationships/package" Target="../embeddings/oleObject9.docx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Data Manipula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 and Applic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hanging LabVIEW Data Typ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eca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e data type of inform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s with flat data, 1D arrays of flat data, and str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ault type is st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atten/Unflatten to/from St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with all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haves like LabVIEW internal flatten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486400" y="1676520"/>
          <a:ext cx="33526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676520"/>
                    <a:ext cx="33526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334120" y="3124080"/>
          <a:ext cx="3352680" cy="9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124080"/>
                    <a:ext cx="33526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410080" y="4419720"/>
          <a:ext cx="320040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419720"/>
                    <a:ext cx="32004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8197920" y="30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yte Level Data Manip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lit / Join numeric values into new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wap Bytes/Words to reorder existing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data to unsigned bytes/words/longwords to manipulate at the byt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vert data to strings to use string functions for manipul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172200" y="838080"/>
          <a:ext cx="259092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838080"/>
                    <a:ext cx="259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172200" y="3200400"/>
          <a:ext cx="2666880" cy="7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20040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172200" y="4038480"/>
          <a:ext cx="259092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4038480"/>
                    <a:ext cx="2590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248520" y="2152800"/>
          <a:ext cx="2514600" cy="97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2152800"/>
                    <a:ext cx="25146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172200" y="4952880"/>
          <a:ext cx="266688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4952880"/>
                    <a:ext cx="2666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8197920" y="30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it Level Manipula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tate Left / Right with Carry to move bits and effect other val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tate to move bits within a val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gical shift moves bits, putting 0s in their pl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urn data into unsigned bytes to use these functions easi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custom bit manipulation turn data into Boolean array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638680" y="880920"/>
          <a:ext cx="312444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880920"/>
                    <a:ext cx="31244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638680" y="2209680"/>
          <a:ext cx="31244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209680"/>
                    <a:ext cx="3124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5715000" y="4724280"/>
          <a:ext cx="3124080" cy="11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724280"/>
                    <a:ext cx="312408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5638680" y="3581280"/>
          <a:ext cx="312444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3581280"/>
                    <a:ext cx="31244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7544880" y="3049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demo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of Data Manipulation - Encrypt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ndards exist for process (NIST, private corporation, etc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2560" indent="-21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rambled data is called ciphertext, unscrambled data plainte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2560" indent="-21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often encrypted using a key – usually a specific number of random bits and error checking b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48520" indent="-17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: 64 bit key: 56 data bits, 8 parity bits (one per byte of key data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48520" indent="-17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ymmetric-key (Private Key): each user has access to the same ke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194120" indent="-23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: can be very fas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194120" indent="-23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: easier to compromise (one key to compromis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848520" indent="-174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blic-key: each user has a public and private ke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sorts of algorithms exist to encrypt data (DES, IDEA, Blowfish, etc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b has a good source of intro p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2560" indent="-21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ttp://www.anujseth.com/crypto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ow to Encrypt Data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ok a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arty DLL (or ActiveX control) into LabVIEW using the Call Library Node (complexities, speed, usability, etc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ow your ow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ably not as secure (but good enough?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bably easier to implement/underst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 op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e bit shif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ey ciphering with your own algorithm (ex: password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mplementation of known algorithm in native G-cod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7683120" y="30492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demos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plications – Instrument I/O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truments (GPIB, ethernet, RS-232, etc) can often transfer data to a host PC in a variety of format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CII: easiest to read but largest byte transf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nary: more difficult to use but much more compa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ll probably need to typecast data after it is receiv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y need to byte swap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binary transfers for faster data transf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possible, pick the smallest data type for transf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40920" y="456840"/>
            <a:ext cx="6680520" cy="630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Applications - Waveform Transfers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"/>
          <p:cNvSpPr/>
          <p:nvPr/>
        </p:nvSpPr>
        <p:spPr>
          <a:xfrm>
            <a:off x="307440" y="1143000"/>
            <a:ext cx="308700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byt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5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byt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pture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6248160" cy="1030320"/>
          </a:xfrm>
          <a:prstGeom prst="rect">
            <a:avLst/>
          </a:prstGeom>
          <a:ln w="0">
            <a:noFill/>
          </a:ln>
        </p:spPr>
      </p:pic>
      <p:pic>
        <p:nvPicPr>
          <p:cNvPr id="335" name="capture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5316480" cy="892440"/>
          </a:xfrm>
          <a:prstGeom prst="rect">
            <a:avLst/>
          </a:prstGeom>
          <a:ln w="0">
            <a:noFill/>
          </a:ln>
        </p:spPr>
      </p:pic>
      <p:pic>
        <p:nvPicPr>
          <p:cNvPr id="336" name="capture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4724280" cy="1519200"/>
          </a:xfrm>
          <a:prstGeom prst="rect">
            <a:avLst/>
          </a:prstGeom>
          <a:ln w="0">
            <a:noFill/>
          </a:ln>
        </p:spPr>
      </p:pic>
      <p:pic>
        <p:nvPicPr>
          <p:cNvPr id="337" name="capture" descr=""/>
          <p:cNvPicPr/>
          <p:nvPr/>
        </p:nvPicPr>
        <p:blipFill>
          <a:blip r:embed="rId4"/>
          <a:stretch/>
        </p:blipFill>
        <p:spPr>
          <a:xfrm>
            <a:off x="8001000" y="4876920"/>
            <a:ext cx="1143000" cy="89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verview of LabVIEW data ty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nipulating LabVIEW data typ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anging data typ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yte level manipulation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t level manipulation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pplications involving data manip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encryp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rument I/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6840" y="890640"/>
            <a:ext cx="3012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igned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igned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igned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3680" y="974880"/>
          <a:ext cx="473040" cy="23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97488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63680" y="1355760"/>
          <a:ext cx="473040" cy="236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680" y="135576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63680" y="1722600"/>
          <a:ext cx="473040" cy="236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172260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3680" y="2070000"/>
          <a:ext cx="473040" cy="2365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680" y="207000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3680" y="2441520"/>
          <a:ext cx="473040" cy="236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680" y="244152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63680" y="2817720"/>
          <a:ext cx="473040" cy="2365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3680" y="281772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3680" y="3170160"/>
          <a:ext cx="473040" cy="2365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3680" y="317016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3680" y="3551400"/>
          <a:ext cx="473040" cy="23652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3680" y="355140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3680" y="3903840"/>
          <a:ext cx="473040" cy="23652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3680" y="3903840"/>
                    <a:ext cx="47304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711680" y="1317600"/>
            <a:ext cx="8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73680" y="988920"/>
            <a:ext cx="596880" cy="216000"/>
            <a:chOff x="3973680" y="988920"/>
            <a:chExt cx="596880" cy="216000"/>
          </a:xfrm>
        </p:grpSpPr>
        <p:sp>
          <p:nvSpPr>
            <p:cNvPr id="116" name=""/>
            <p:cNvSpPr/>
            <p:nvPr/>
          </p:nvSpPr>
          <p:spPr>
            <a:xfrm>
              <a:off x="397368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000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5960" y="988920"/>
              <a:ext cx="6372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0228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7860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4560" y="988920"/>
              <a:ext cx="6372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3088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7200" y="988920"/>
              <a:ext cx="633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973680" y="1722600"/>
            <a:ext cx="1129320" cy="215640"/>
            <a:chOff x="3973680" y="1722600"/>
            <a:chExt cx="1129320" cy="215640"/>
          </a:xfrm>
        </p:grpSpPr>
        <p:grpSp>
          <p:nvGrpSpPr>
            <p:cNvPr id="125" name=""/>
            <p:cNvGrpSpPr/>
            <p:nvPr/>
          </p:nvGrpSpPr>
          <p:grpSpPr>
            <a:xfrm>
              <a:off x="3973680" y="1722600"/>
              <a:ext cx="596160" cy="215640"/>
              <a:chOff x="3973680" y="1722600"/>
              <a:chExt cx="596160" cy="215640"/>
            </a:xfrm>
          </p:grpSpPr>
          <p:sp>
            <p:nvSpPr>
              <p:cNvPr id="126" name=""/>
              <p:cNvSpPr/>
              <p:nvPr/>
            </p:nvSpPr>
            <p:spPr>
              <a:xfrm>
                <a:off x="397368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496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2560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0192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782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5420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3052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068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506840" y="1722600"/>
              <a:ext cx="596160" cy="215640"/>
              <a:chOff x="4506840" y="1722600"/>
              <a:chExt cx="596160" cy="215640"/>
            </a:xfrm>
          </p:grpSpPr>
          <p:sp>
            <p:nvSpPr>
              <p:cNvPr id="135" name=""/>
              <p:cNvSpPr/>
              <p:nvPr/>
            </p:nvSpPr>
            <p:spPr>
              <a:xfrm>
                <a:off x="450684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8244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5876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3508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1104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8736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63680" y="1722600"/>
                <a:ext cx="6300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39640" y="1722600"/>
                <a:ext cx="63360" cy="21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3973680" y="2817720"/>
            <a:ext cx="2271960" cy="216000"/>
            <a:chOff x="3973680" y="2817720"/>
            <a:chExt cx="2271960" cy="216000"/>
          </a:xfrm>
        </p:grpSpPr>
        <p:grpSp>
          <p:nvGrpSpPr>
            <p:cNvPr id="144" name=""/>
            <p:cNvGrpSpPr/>
            <p:nvPr/>
          </p:nvGrpSpPr>
          <p:grpSpPr>
            <a:xfrm>
              <a:off x="3973680" y="2817720"/>
              <a:ext cx="1129320" cy="216000"/>
              <a:chOff x="3973680" y="2817720"/>
              <a:chExt cx="1129320" cy="21600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973680" y="2817720"/>
                <a:ext cx="596160" cy="216000"/>
                <a:chOff x="3973680" y="2817720"/>
                <a:chExt cx="596160" cy="2160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736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496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12560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019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782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35420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4305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068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506840" y="2817720"/>
                <a:ext cx="596160" cy="216000"/>
                <a:chOff x="4506840" y="2817720"/>
                <a:chExt cx="596160" cy="2160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0684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824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587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7350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8110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8873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636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0396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5116320" y="2817720"/>
              <a:ext cx="1129320" cy="216000"/>
              <a:chOff x="5116320" y="2817720"/>
              <a:chExt cx="1129320" cy="21600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5116320" y="2817720"/>
                <a:ext cx="596160" cy="216000"/>
                <a:chOff x="5116320" y="2817720"/>
                <a:chExt cx="596160" cy="216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1163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922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682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445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208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9684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7316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6494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49480" y="2817720"/>
                <a:ext cx="596160" cy="216000"/>
                <a:chOff x="5649480" y="2817720"/>
                <a:chExt cx="596160" cy="216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64948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2508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80140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8777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95368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3000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06320" y="2817720"/>
                  <a:ext cx="63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82280" y="2817720"/>
                  <a:ext cx="6336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" name=""/>
          <p:cNvGrpSpPr/>
          <p:nvPr/>
        </p:nvGrpSpPr>
        <p:grpSpPr>
          <a:xfrm>
            <a:off x="3973680" y="1370160"/>
            <a:ext cx="596880" cy="215640"/>
            <a:chOff x="3973680" y="1370160"/>
            <a:chExt cx="596880" cy="215640"/>
          </a:xfrm>
        </p:grpSpPr>
        <p:sp>
          <p:nvSpPr>
            <p:cNvPr id="183" name=""/>
            <p:cNvSpPr/>
            <p:nvPr/>
          </p:nvSpPr>
          <p:spPr>
            <a:xfrm>
              <a:off x="397368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000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25960" y="1370160"/>
              <a:ext cx="6372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228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7860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54560" y="1370160"/>
              <a:ext cx="6372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3088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7200" y="1370160"/>
              <a:ext cx="6336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973680" y="2089080"/>
            <a:ext cx="1129320" cy="216000"/>
            <a:chOff x="3973680" y="2089080"/>
            <a:chExt cx="1129320" cy="216000"/>
          </a:xfrm>
        </p:grpSpPr>
        <p:grpSp>
          <p:nvGrpSpPr>
            <p:cNvPr id="192" name=""/>
            <p:cNvGrpSpPr/>
            <p:nvPr/>
          </p:nvGrpSpPr>
          <p:grpSpPr>
            <a:xfrm>
              <a:off x="3973680" y="2089080"/>
              <a:ext cx="596160" cy="216000"/>
              <a:chOff x="3973680" y="2089080"/>
              <a:chExt cx="596160" cy="216000"/>
            </a:xfrm>
          </p:grpSpPr>
          <p:sp>
            <p:nvSpPr>
              <p:cNvPr id="193" name=""/>
              <p:cNvSpPr/>
              <p:nvPr/>
            </p:nvSpPr>
            <p:spPr>
              <a:xfrm>
                <a:off x="397368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496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2560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20192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782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5420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3052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5068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06840" y="2089080"/>
              <a:ext cx="596160" cy="216000"/>
              <a:chOff x="4506840" y="2089080"/>
              <a:chExt cx="596160" cy="216000"/>
            </a:xfrm>
          </p:grpSpPr>
          <p:sp>
            <p:nvSpPr>
              <p:cNvPr id="202" name=""/>
              <p:cNvSpPr/>
              <p:nvPr/>
            </p:nvSpPr>
            <p:spPr>
              <a:xfrm>
                <a:off x="450684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8244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5876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3508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1104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8736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63680" y="2089080"/>
                <a:ext cx="6300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39640" y="2089080"/>
                <a:ext cx="63360" cy="216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973680" y="2451240"/>
            <a:ext cx="2271960" cy="215640"/>
            <a:chOff x="3973680" y="2451240"/>
            <a:chExt cx="2271960" cy="215640"/>
          </a:xfrm>
        </p:grpSpPr>
        <p:grpSp>
          <p:nvGrpSpPr>
            <p:cNvPr id="211" name=""/>
            <p:cNvGrpSpPr/>
            <p:nvPr/>
          </p:nvGrpSpPr>
          <p:grpSpPr>
            <a:xfrm>
              <a:off x="3973680" y="2451240"/>
              <a:ext cx="1129320" cy="215640"/>
              <a:chOff x="3973680" y="2451240"/>
              <a:chExt cx="1129320" cy="2156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973680" y="2451240"/>
                <a:ext cx="596160" cy="215640"/>
                <a:chOff x="3973680" y="2451240"/>
                <a:chExt cx="596160" cy="215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736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0496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12560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019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2782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35420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305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5068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06840" y="2451240"/>
                <a:ext cx="596160" cy="215640"/>
                <a:chOff x="4506840" y="2451240"/>
                <a:chExt cx="596160" cy="215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50684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5824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587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350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8110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873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636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396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5116320" y="2451240"/>
              <a:ext cx="1129320" cy="215640"/>
              <a:chOff x="5116320" y="2451240"/>
              <a:chExt cx="1129320" cy="2156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116320" y="2451240"/>
                <a:ext cx="596160" cy="215640"/>
                <a:chOff x="5116320" y="2451240"/>
                <a:chExt cx="596160" cy="215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1163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1922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2682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445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4208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49684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57316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494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649480" y="2451240"/>
                <a:ext cx="596160" cy="215640"/>
                <a:chOff x="5649480" y="2451240"/>
                <a:chExt cx="596160" cy="215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64948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2508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80140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777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95368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3000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06320" y="2451240"/>
                  <a:ext cx="6300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82280" y="2451240"/>
                  <a:ext cx="63360" cy="215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9" name=""/>
          <p:cNvSpPr/>
          <p:nvPr/>
        </p:nvSpPr>
        <p:spPr>
          <a:xfrm>
            <a:off x="4711680" y="936720"/>
            <a:ext cx="8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44840" y="162252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4840" y="20034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87840" y="238428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87840" y="276552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3581280"/>
            <a:ext cx="105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79120" y="5334120"/>
            <a:ext cx="1839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: 16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6600" y="4267080"/>
            <a:ext cx="322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/Linux: 1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0520" y="4724280"/>
            <a:ext cx="346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Mac: Double/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1280" y="3124080"/>
            <a:ext cx="106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Numeric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9"/>
          <a:stretch/>
        </p:blipFill>
        <p:spPr>
          <a:xfrm>
            <a:off x="3962520" y="3048120"/>
            <a:ext cx="2438280" cy="447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0"/>
          <a:stretch/>
        </p:blipFill>
        <p:spPr>
          <a:xfrm>
            <a:off x="3962520" y="3505320"/>
            <a:ext cx="2428920" cy="476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1"/>
          <a:stretch/>
        </p:blipFill>
        <p:spPr>
          <a:xfrm>
            <a:off x="1066680" y="4191120"/>
            <a:ext cx="2448000" cy="476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2"/>
          <a:stretch/>
        </p:blipFill>
        <p:spPr>
          <a:xfrm>
            <a:off x="1066680" y="4648320"/>
            <a:ext cx="4238640" cy="628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3"/>
          <a:stretch/>
        </p:blipFill>
        <p:spPr>
          <a:xfrm>
            <a:off x="1066680" y="5257800"/>
            <a:ext cx="243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Array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red as handles containing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ze of each dimension (in unsigned long integers, U32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 (size of elements varies but is consistent through arra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align data correctly, a few bytes of padding may be added before the first element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ray is a continuous block of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3429000" cy="166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71600" y="373392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D array of SG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3000240" cy="2124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495680" y="45403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D array of I16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Oth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ooleans: 8 bi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90960" indent="-16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zeros = FALSE, nonzero = TRU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ings: 1D array of unsigned by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ray of Strings: array of U32 handles to string lo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34280" indent="-13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ths: handles containing path type and number of path components in U16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90960" indent="-16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te 0,1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59880" indent="-13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 (abs), 1(rel), 3 (UNC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390960" indent="-16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te 2,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659880" indent="-13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# of path compone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867280" y="914400"/>
            <a:ext cx="2990880" cy="1523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5562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VIEW Data Types: Cluste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 stored according to cluster or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calar data stored directly in clust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rrays, strings, and paths stored as a handle to the memory location where the data is stor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2800" indent="-172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dding may need to be added, depending on 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85800" y="4896000"/>
            <a:ext cx="2286000" cy="10476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76720" y="4848120"/>
            <a:ext cx="2361960" cy="1057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324480" y="492444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072440" y="40384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ample: cluster of SGL, EXT, and 1D array of U16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4495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69600" y="44956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6120" y="44956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lattened Dat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at data takes up a continuous block of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ar and array numerics are fl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ings are fl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rays of string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l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e flat (if simple numerics, for exampl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uring File I/O LabVIEW automatically flattens all data to ease storage to di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atten/Unflatten to/from String functions perform the same operations in mem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lattened Data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ttened data normalized to standard form for platform independ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eric data in big endian form (MSB firs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6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ndows apps may need to be little endian – swap by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n format for extended precision numb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ttened form does not have data enco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en unflattening, data type needs to be know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ype descriptor used to define data typ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8197920" y="30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ype Descriptor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quence of word integers that can describe any data type in LabVIEW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174600" indent="-17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lt;length&gt; &lt;type code&gt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length&gt; I16 size in bytes (including length word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type code&gt;  description of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additional info may follow type 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rays and clusters structured (since there are other data typ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-217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quickly get complicated to deciph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8197920" y="30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1:10:10Z</dcterms:created>
  <dc:creator>Norma Dorst</dc:creator>
  <dc:description/>
  <dc:language>en-US</dc:language>
  <cp:lastModifiedBy>Ron Grassel</cp:lastModifiedBy>
  <dcterms:modified xsi:type="dcterms:W3CDTF">2002-12-17T18:31:30Z</dcterms:modified>
  <cp:revision>204</cp:revision>
  <dc:subject/>
  <dc:title>The Vision of Virtual Instrumentation</dc:title>
</cp:coreProperties>
</file>